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0A45-6B50-477F-8377-0D24DBCD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893C-14D6-4CC2-9C82-13C7178B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7569-3BCB-450A-AB9F-4AF7CFED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BA71-AC38-4392-86C1-241CFF3F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0900-758C-46C2-9344-E5805ED5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0E06-2BC2-4073-BFDD-9D21348C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6A7F-9CC7-4A0A-8620-26F45611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4C88-C3BC-471B-AC8F-E57151BB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3EB2-A11F-4E5E-9C05-3009958C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B85B-B00A-46A3-A773-D739A451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CE18-676B-4863-902E-7A512E2F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9B9E-BC5B-41E0-84D3-9DF621D3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2840-6C95-4296-BDB7-802F1A906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02040" y="490680"/>
            <a:ext cx="711000" cy="996840"/>
            <a:chOff x="3002040" y="490680"/>
            <a:chExt cx="711000" cy="996840"/>
          </a:xfrm>
        </p:grpSpPr>
        <p:sp>
          <p:nvSpPr>
            <p:cNvPr id="42" name=""/>
            <p:cNvSpPr/>
            <p:nvPr/>
          </p:nvSpPr>
          <p:spPr>
            <a:xfrm flipH="1">
              <a:off x="3003480" y="522360"/>
              <a:ext cx="704880" cy="965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34440" y="719280"/>
              <a:ext cx="88920" cy="88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3587040" y="719280"/>
              <a:ext cx="88920" cy="88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455280" y="83520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3385440" y="83520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3312360" y="83520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3239280" y="83520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3420360" y="92412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50520" y="92412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277440" y="92412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204360" y="92412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3609720" y="1266840"/>
              <a:ext cx="6696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425040" y="126684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3215520" y="126684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3034440" y="126684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607560" y="138600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3425040" y="138600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3215520" y="138600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3033000" y="138600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73200" y="968400"/>
              <a:ext cx="0" cy="45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59160" y="1420920"/>
              <a:ext cx="5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3330360" y="1036440"/>
              <a:ext cx="0" cy="38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292200" y="1420920"/>
              <a:ext cx="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3441600" y="963720"/>
              <a:ext cx="0" cy="30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59080" y="1028880"/>
              <a:ext cx="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3162240" y="868680"/>
              <a:ext cx="77760" cy="5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65480" y="91152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101760" y="1420920"/>
              <a:ext cx="7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98840" y="871560"/>
              <a:ext cx="54000" cy="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46360" y="935280"/>
              <a:ext cx="0" cy="48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31960" y="1420920"/>
              <a:ext cx="7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3406680" y="782280"/>
              <a:ext cx="1440" cy="4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06680" y="797040"/>
              <a:ext cx="133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31960" y="793800"/>
              <a:ext cx="11448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39960" y="925560"/>
              <a:ext cx="0" cy="34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3335400" y="784080"/>
              <a:ext cx="0" cy="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3181320" y="797040"/>
              <a:ext cx="16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061800" y="795600"/>
              <a:ext cx="12708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068640" y="887040"/>
              <a:ext cx="0" cy="37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3305160" y="960120"/>
              <a:ext cx="25200" cy="8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 flipV="1">
              <a:off x="3234960" y="966600"/>
              <a:ext cx="27000" cy="6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02040" y="490680"/>
              <a:ext cx="71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iw3i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15:27:45Z</dcterms:created>
  <dc:creator>iw3ici</dc:creator>
  <dc:description/>
  <dc:language>en-US</dc:language>
  <cp:lastModifiedBy>iw3ici</cp:lastModifiedBy>
  <dcterms:modified xsi:type="dcterms:W3CDTF">2005-03-16T15:44:45Z</dcterms:modified>
  <cp:revision>3</cp:revision>
  <dc:subject/>
  <dc:title>Presentazione di PowerPoint</dc:title>
</cp:coreProperties>
</file>